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3BB-BC92-4C6B-8C89-0560D86C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B64-584D-4A97-97B5-3B89A61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202-B782-448F-AC6A-F56EEA5E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172-A20E-41B7-A2E8-6DBD8191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B36-AC23-4F5B-BE92-809EF5F2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2E4-E835-44F8-BDA0-0C43E7A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CEB-214B-410C-9264-DA83D812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C57-FB1E-4A30-94B1-80F68143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CE9-F077-4108-8619-C6884358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4C0-4B91-4863-A548-A9394EA6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1F2-D6B3-4509-A868-B6A3959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9E4-2BE9-4332-B845-3A9D455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CF53-82B3-408A-8419-AC4ED5B2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as specific as possible, please explain the problems with each of the following thesis statements (no tricks in the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day Bloody Sunday” is a song about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ng “Sunday Bloody Sunday” is a song by U2 that is about a day in 1972 that was called “Bloody Sunday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2’s song “Sunday Bloody Sunday” talks about blood and pain that comes with battles and viol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sis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laim that is arguable and/or def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(not obv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more than a statement of personal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paper/presentation/etc a reason to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2:25:56Z</dcterms:created>
  <dc:creator>Administrator</dc:creator>
  <dc:description/>
  <dc:language>en-US</dc:language>
  <cp:lastModifiedBy>Administrator</cp:lastModifiedBy>
  <dcterms:modified xsi:type="dcterms:W3CDTF">2010-10-13T13:44:48Z</dcterms:modified>
  <cp:revision>4</cp:revision>
  <dc:subject/>
  <dc:title>Slide 1</dc:title>
</cp:coreProperties>
</file>